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ECF-32C8-4087-99EF-DB9B0A4C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CFD-1C84-4688-BE09-4D0BBB9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54F-01B9-4A7D-A67F-3E37AAEE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A67-E7C4-41B2-897B-E5DB46F1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711-403D-4C6B-A3C5-2893BEE3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D4F-0A5A-4E2B-AAE2-90017D4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6826-AFCA-446D-9B3E-9E67D895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535-A796-4213-AC9A-39B4B55E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41A-CBB5-4188-8614-64E324D7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69B-210E-4C05-A9E8-9ED1A14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58D-15E2-426C-BBE8-A2670CD5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6AF-7E9D-4107-AC95-5611AB4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E54E-3053-4567-A42F-94E59F40D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03280" y="0"/>
            <a:ext cx="6661080" cy="51134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5"/>
          <p:cNvGrpSpPr/>
          <p:nvPr/>
        </p:nvGrpSpPr>
        <p:grpSpPr>
          <a:xfrm>
            <a:off x="746280" y="5157720"/>
            <a:ext cx="7886520" cy="1666800"/>
            <a:chOff x="746280" y="5157720"/>
            <a:chExt cx="7886520" cy="1666800"/>
          </a:xfrm>
        </p:grpSpPr>
        <p:sp>
          <p:nvSpPr>
            <p:cNvPr id="43" name="Rectangle 6"/>
            <p:cNvSpPr/>
            <p:nvPr/>
          </p:nvSpPr>
          <p:spPr>
            <a:xfrm>
              <a:off x="746280" y="5157720"/>
              <a:ext cx="78865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                  Atmospheric                        De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evel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7" descr="indicator"/>
            <p:cNvPicPr/>
            <p:nvPr/>
          </p:nvPicPr>
          <p:blipFill>
            <a:blip r:embed="rId2"/>
            <a:stretch/>
          </p:blipFill>
          <p:spPr>
            <a:xfrm>
              <a:off x="890280" y="5729040"/>
              <a:ext cx="7456320" cy="10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403280" y="0"/>
            <a:ext cx="6661080" cy="51134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746280" y="5157720"/>
            <a:ext cx="7886520" cy="1666800"/>
            <a:chOff x="746280" y="5157720"/>
            <a:chExt cx="7886520" cy="1666800"/>
          </a:xfrm>
        </p:grpSpPr>
        <p:sp>
          <p:nvSpPr>
            <p:cNvPr id="47" name="Rectangle 6"/>
            <p:cNvSpPr/>
            <p:nvPr/>
          </p:nvSpPr>
          <p:spPr>
            <a:xfrm>
              <a:off x="746280" y="5157720"/>
              <a:ext cx="788652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                  Atmospheric                        Decreasing 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indic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0" lang="en-GB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evel                                                 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7" descr="indicator"/>
            <p:cNvPicPr/>
            <p:nvPr/>
          </p:nvPicPr>
          <p:blipFill>
            <a:blip r:embed="rId2"/>
            <a:stretch/>
          </p:blipFill>
          <p:spPr>
            <a:xfrm>
              <a:off x="890280" y="5729040"/>
              <a:ext cx="7456320" cy="10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3708360" y="1052640"/>
            <a:ext cx="65736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3718080" y="2062080"/>
            <a:ext cx="65700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3718080" y="2976480"/>
            <a:ext cx="666720" cy="90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6"/>
          <a:stretch/>
        </p:blipFill>
        <p:spPr>
          <a:xfrm>
            <a:off x="3686040" y="3881520"/>
            <a:ext cx="695520" cy="981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1547640" y="0"/>
            <a:ext cx="2376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608004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5877000" y="3429000"/>
            <a:ext cx="3012840" cy="303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156360" y="62064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the correct explanation for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5084640"/>
            <a:ext cx="58770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545320" cy="190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476360" y="2095560"/>
            <a:ext cx="6080040" cy="474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757760" y="2708280"/>
            <a:ext cx="2486160" cy="69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4757760" y="3732120"/>
            <a:ext cx="262872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4807080" y="4741920"/>
            <a:ext cx="257148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4757760" y="5950080"/>
            <a:ext cx="26766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4:37:37Z</dcterms:created>
  <dc:creator>debbie</dc:creator>
  <dc:description/>
  <dc:language>en-US</dc:language>
  <cp:lastModifiedBy>Carl R. Pratt</cp:lastModifiedBy>
  <dcterms:modified xsi:type="dcterms:W3CDTF">2013-08-11T17:52:09Z</dcterms:modified>
  <cp:revision>6</cp:revision>
  <dc:subject/>
  <dc:title>Slide 1</dc:title>
</cp:coreProperties>
</file>